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9A1-3E63-4FA3-915E-5996F868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7A5-03FF-4D6C-BD51-674DF812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C8E-00C2-49D4-9CE5-C01B4D90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3A6-F95D-473D-BF02-748A7C20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6F28-632C-40A1-8127-F237A100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A12-8034-4BA2-8989-CF3ACAA9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7B9-C0E2-40E4-BEE3-550153C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27E-C70D-4CC5-9F54-87F0384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931-34D0-4D20-9139-A05C98C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18A-512B-4B92-92CC-F8D7F00D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1EB-374B-4632-8852-4A25DCD3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167-3C36-4DBB-9EF9-DA1CA142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09BC-F25A-4493-830E-340FA00F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5335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ival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D.J. Thwe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 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Crusades, knights continued to show their skill as well as bravery in medieval tournaments; such as: jousting, blunt sword fighting, and arche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Chival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Don Quix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Don Quixot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#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 The Crus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valry is a common word for the knightly system of the Medieva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lides illustrate thi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_burgen_pechundschwefel" descr=""/>
          <p:cNvPicPr/>
          <p:nvPr/>
        </p:nvPicPr>
        <p:blipFill>
          <a:blip r:embed="rId1"/>
          <a:stretch/>
        </p:blipFill>
        <p:spPr>
          <a:xfrm>
            <a:off x="0" y="2514600"/>
            <a:ext cx="1782720" cy="2378160"/>
          </a:xfrm>
          <a:prstGeom prst="rect">
            <a:avLst/>
          </a:prstGeom>
          <a:ln w="0">
            <a:noFill/>
          </a:ln>
        </p:spPr>
      </p:pic>
      <p:pic>
        <p:nvPicPr>
          <p:cNvPr id="45" name="image" descr=""/>
          <p:cNvPicPr/>
          <p:nvPr/>
        </p:nvPicPr>
        <p:blipFill>
          <a:blip r:embed="rId2"/>
          <a:stretch/>
        </p:blipFill>
        <p:spPr>
          <a:xfrm>
            <a:off x="4479840" y="3429000"/>
            <a:ext cx="466416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809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night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733920"/>
          </a:xfrm>
          <a:prstGeom prst="rect">
            <a:avLst/>
          </a:prstGeom>
          <a:ln w="0">
            <a:noFill/>
          </a:ln>
        </p:spPr>
      </p:pic>
      <p:pic>
        <p:nvPicPr>
          <p:cNvPr id="49" name="sermiri" descr=""/>
          <p:cNvPicPr/>
          <p:nvPr/>
        </p:nvPicPr>
        <p:blipFill>
          <a:blip r:embed="rId2"/>
          <a:stretch/>
        </p:blipFill>
        <p:spPr>
          <a:xfrm>
            <a:off x="5105520" y="3990960"/>
            <a:ext cx="4038480" cy="2867040"/>
          </a:xfrm>
          <a:prstGeom prst="rect">
            <a:avLst/>
          </a:prstGeom>
          <a:ln w="0">
            <a:noFill/>
          </a:ln>
        </p:spPr>
      </p:pic>
      <p:pic>
        <p:nvPicPr>
          <p:cNvPr id="50" name="image_1298" descr=""/>
          <p:cNvPicPr/>
          <p:nvPr/>
        </p:nvPicPr>
        <p:blipFill>
          <a:blip r:embed="rId3"/>
          <a:stretch/>
        </p:blipFill>
        <p:spPr>
          <a:xfrm>
            <a:off x="7826400" y="0"/>
            <a:ext cx="1317600" cy="1371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477120" y="1752480"/>
            <a:ext cx="6858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???</a:t>
            </a:r>
            <a:endParaRPr b="1" i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010280" y="914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391520" y="1447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391520" y="15998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ngswordman" descr=""/>
          <p:cNvPicPr/>
          <p:nvPr/>
        </p:nvPicPr>
        <p:blipFill>
          <a:blip r:embed="rId6"/>
          <a:stretch/>
        </p:blipFill>
        <p:spPr>
          <a:xfrm>
            <a:off x="1600200" y="4191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ontypythonandtheholygrail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32004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ty Python And The Holy Grai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excellent example of medieval chival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ntypythonandtheholygrail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59" name="norm-421bfd4311a1b-Monty+Python+&amp;+The+Holy+Grail+(1975)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1957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d “chivalry,” came from the word “horseman,” in other languages; such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valier (Fren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allero (Span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aliere (Italia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renchknight" descr=""/>
          <p:cNvPicPr/>
          <p:nvPr/>
        </p:nvPicPr>
        <p:blipFill>
          <a:blip r:embed="rId1"/>
          <a:stretch/>
        </p:blipFill>
        <p:spPr>
          <a:xfrm>
            <a:off x="0" y="4309920"/>
            <a:ext cx="2270160" cy="2548080"/>
          </a:xfrm>
          <a:prstGeom prst="rect">
            <a:avLst/>
          </a:prstGeom>
          <a:ln w="0">
            <a:noFill/>
          </a:ln>
        </p:spPr>
      </p:pic>
      <p:pic>
        <p:nvPicPr>
          <p:cNvPr id="63" name="TOYS%20STATUE%20T-HF872-6%20Spanish%20Knight" descr=""/>
          <p:cNvPicPr/>
          <p:nvPr/>
        </p:nvPicPr>
        <p:blipFill>
          <a:blip r:embed="rId2"/>
          <a:stretch/>
        </p:blipFill>
        <p:spPr>
          <a:xfrm>
            <a:off x="4191120" y="4267080"/>
            <a:ext cx="97920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italian_knt" descr=""/>
          <p:cNvPicPr/>
          <p:nvPr/>
        </p:nvPicPr>
        <p:blipFill>
          <a:blip r:embed="rId3"/>
          <a:stretch/>
        </p:blipFill>
        <p:spPr>
          <a:xfrm>
            <a:off x="7391520" y="4335480"/>
            <a:ext cx="1052280" cy="252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43400" y="236232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14240" y="3657600"/>
            <a:ext cx="3352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048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581280"/>
            <a:ext cx="2666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Lad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after a lord of the land, came the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night was trusted by the lord to protect his land at all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knights-danger" descr=""/>
          <p:cNvPicPr/>
          <p:nvPr/>
        </p:nvPicPr>
        <p:blipFill>
          <a:blip r:embed="rId1"/>
          <a:stretch/>
        </p:blipFill>
        <p:spPr>
          <a:xfrm>
            <a:off x="6791400" y="3352680"/>
            <a:ext cx="23526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5107063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2340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 Quixote!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Man Of La Manch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night of chival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d in 1615, but not translated into English until 162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:  Miguel de Cervantes Saaav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h_img_donquijote0" descr=""/>
          <p:cNvPicPr/>
          <p:nvPr/>
        </p:nvPicPr>
        <p:blipFill>
          <a:blip r:embed="rId1"/>
          <a:stretch/>
        </p:blipFill>
        <p:spPr>
          <a:xfrm>
            <a:off x="7162920" y="4038480"/>
            <a:ext cx="182232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cervantes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047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ghts belonged to a multitude of specific Orders, each were for one purpose or another. Most orders emphasized componen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s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Worth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valric Or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1096 to 1270, were the crus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between the Muslims and Medieval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fought for Jerusalem, the holy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S010471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255600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crusades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4:06:02Z</dcterms:created>
  <dc:creator>D.J. Thweatt</dc:creator>
  <dc:description/>
  <dc:language>en-US</dc:language>
  <cp:lastModifiedBy>D.J. Thweatt</cp:lastModifiedBy>
  <dcterms:modified xsi:type="dcterms:W3CDTF">2008-02-20T05:09:07Z</dcterms:modified>
  <cp:revision>1</cp:revision>
  <dc:subject/>
  <dc:title>Chivalry</dc:title>
</cp:coreProperties>
</file>